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10288588" cy="6858000"/>
  <p:notesSz cx="6858000" cy="9021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08EA-804E-471A-BEF0-13D7F2F12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84CC-386B-49C6-9197-E91FF5C9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F463-3A34-4784-A2E2-74AFF8205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C80F-A890-41DA-96D9-449A99297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0110-7C75-41EF-BDE1-4F2070637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212E-6102-4CEE-8B06-FD6BE8282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689C-29EB-4ED6-9136-5CF42B6E2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F01A-F711-4271-8EE5-F3CD3AEC0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1266-373D-4BD1-A1F0-049276BB0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DB75-AADA-4CD4-B4AB-E98AD6C6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99F3-1D1D-4F29-AF2B-396F9F4B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6D3C-7576-4713-8628-D495C804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4038E-4EAE-4411-BA1F-E37643B2F5B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028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NT Emergenc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86080" y="51051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tanford Univer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ivision of Emergency Medic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740040" y="1981080"/>
            <a:ext cx="234648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00280" y="3045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iddle Ear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160" y="1219320"/>
            <a:ext cx="58672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ous Otitis Media - Eustachian tube dysfunction - treat with decongestants, decompressive maneu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itis Media - infection of middle ear effusion - viral and bac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toiditis - Venous connection with brain, need aggressive treatment (can lead to brain abcess or meningit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981760" y="12193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8267760" y="1676520"/>
            <a:ext cx="1876320" cy="14857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7223040" y="3524400"/>
            <a:ext cx="186048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ner Ear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52560" y="18478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ipheral vertigo (vestibulopath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PV, labyrhinth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acute onset, no central signs, usually young, horizontal nystagm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iere’s - vertigo, sensorineural hearing loss, tinni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valium, fluids, rest, manipulation for BP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Nos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6760" y="18478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scular Supp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Anterior - branches of internal carot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Posterior - distal branches of external carot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475160" y="1752480"/>
            <a:ext cx="5581800" cy="42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pistaxis</a:t>
            </a:r>
            <a:br>
              <a:rPr sz="4400"/>
            </a:b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Anterior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0% (Little’s Area) Kisselbach’s plexus - usually children, young ad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tiolog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uma, epistaxis digitor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ter Syndrome, Allerg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ritants - cocaine, sp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gna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pistaxis</a:t>
            </a:r>
            <a:br>
              <a:rPr sz="4400"/>
            </a:b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Posterior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% of all epistaxis - usually in the elder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iolog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agulopat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heroscler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opla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pertension (debatab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pistaxi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anageme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in meds, lower BP, calm pat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pare ! (gown, mask, suction, speculum, meds and packing read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cuate clo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pical vasoconstrictor and anesthe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y sou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2360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pistaxi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anageme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95360" y="200016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terior Si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Pressure +/- cautery and/or tampon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all packs require antibiotic prophylax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386400" y="1676520"/>
            <a:ext cx="253368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728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pistaxi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osterior Packin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7148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analgesia and sed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ire admission and 02 saturation 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667560" y="1676520"/>
            <a:ext cx="1790640" cy="26859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796000" y="4514760"/>
            <a:ext cx="3562200" cy="22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pistaxi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mplica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1160" y="2228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re blee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poxia, hypercarb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usitis, otitis me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crosis of the columella or nasal a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00280" y="3045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7th Nerve Pals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0" y="1467000"/>
            <a:ext cx="5676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cases are idiopathi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link to HS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no proof steroids or antivirals are effective, but many advoc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Lyme’s Disease in edemic ar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gical decompression indicated in the rare patient not improving by 2 weeks and ENOG out &gt; 9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981760" y="1371600"/>
            <a:ext cx="3708360" cy="49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Overview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tologic Disord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sal Disord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acial, Oral and Pharyngeal Infection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irway Obstru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2360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acial Infection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inusiti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66400" y="1599840"/>
            <a:ext cx="47242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igns and sympto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H/A, facial pain in sinus dis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purulent yellow-green rhinorrh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fe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CT more sensitive than plain fil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ausative Organis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gram positives and H. flu (acu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anaerobes, gram neg (chron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972480" y="1219320"/>
            <a:ext cx="2423880" cy="27032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02360" y="4114800"/>
            <a:ext cx="2365560" cy="26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acial Infection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inusiti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6400" y="1599840"/>
            <a:ext cx="5715000" cy="405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ute - amoxil, sept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ronic - amoxil-clavulinic acid, clindamycin, quinol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ongestants, analgesia, he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om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thmoid sinusitis - orbital cellulits and ab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ntal sinusitis - may erode bone (Potts Puffy Tumor, Brain Abc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324480" y="2000160"/>
            <a:ext cx="3419640" cy="41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acial Celluliti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7148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common strept and staph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rely H.Fl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progress rapid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805360" y="1676520"/>
            <a:ext cx="387684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arotiditi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43080" y="1619280"/>
            <a:ext cx="5410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ually vi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paramyxovir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te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elderly, immunosuppre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associated with dehyd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cover - Staph, anaerob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058080" y="1676520"/>
          <a:ext cx="3051000" cy="417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8080" y="1676520"/>
                    <a:ext cx="3051000" cy="41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haryngiti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6760" y="200016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rit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reflux, trauma, g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r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EBV, adenovir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cter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GABHS, mycoplasma, gonorrhea, dipth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753160" y="1905120"/>
            <a:ext cx="3276720" cy="279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ritonsillar Abces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ication of suppurative tonsill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erior - medial displacement of tonsil and uvu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ysphagia, ear pain, muffled voice, fever, trism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atm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Antibiotics, I&amp;D, +/-steroi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piglottitis</a:t>
            </a:r>
            <a:br>
              <a:rPr sz="4400"/>
            </a:b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Clinical Pictur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360" y="2133720"/>
            <a:ext cx="5410080" cy="34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lder children and ad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rease incidence in children secondary to HIB vacc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set rapid, patients look tox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fer to sit, muffled voice, dysphagia, drooling, restless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058080" y="2635200"/>
            <a:ext cx="3800160" cy="253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piglottiti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oid agi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rect visualization if patient allo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ft tissue of ne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thumb print, valecula 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pare for emergent airway, best achieved in a controlled set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asyn, +/- steroi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676840" y="1940040"/>
            <a:ext cx="3952800" cy="4078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800280" y="1649520"/>
            <a:ext cx="3200400" cy="4294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114960" y="6156360"/>
            <a:ext cx="1762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piglottit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tropharyngeal Abces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90440" y="1676520"/>
            <a:ext cx="5639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erior to prevertebral space and posterior to pharyn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ually in children under 4 (lymphoid tissue in spa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in, dysphagia, dyspnea, fe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elling of retropharyngeal space on lateral x-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ications - mediastin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799240" y="1676520"/>
            <a:ext cx="4373640" cy="40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728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Otologic Disorder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natom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19040" y="16956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ric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 ca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mpanic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ddle ear and mastoid disor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ner 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152960" y="1600200"/>
            <a:ext cx="5664240" cy="466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324160" y="2057400"/>
            <a:ext cx="2590920" cy="60948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29080" y="2514600"/>
            <a:ext cx="3733560" cy="144792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62440" y="35812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57680" y="4952880"/>
            <a:ext cx="434340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81360" y="5791320"/>
            <a:ext cx="59436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8724960" y="4190760"/>
            <a:ext cx="0" cy="160020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33640" y="3733920"/>
            <a:ext cx="4496040" cy="45720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asticator - Parapharyngeal Space Infec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19040" y="167652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ection of the lower molars invade masticator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elling, pain fever, TRISM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V antibiotics (PCN or Clindamyc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 admi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600880" y="1828800"/>
            <a:ext cx="4257360" cy="283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NUG</a:t>
            </a:r>
            <a:br>
              <a:rPr sz="4400"/>
            </a:b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Acute Necrotizing Ulcerative Gingiviti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42720" y="1771560"/>
            <a:ext cx="5562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terial infection causing an acute necrotizing, destructive disease of periodonti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oral rin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antibiotics (PCN, clindamycin, tetracyclin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702400" y="1735200"/>
          <a:ext cx="4430520" cy="291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02400" y="1735200"/>
                    <a:ext cx="4430520" cy="29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udwigs Angina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6400" y="167652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pidly progressive cellulitis of the floor of the mou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ually in elderly debilitated patients and precipitated by dental proced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sive swelling with impending airway obstr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CU, antibiotics, airway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058080" y="1676520"/>
            <a:ext cx="3962160" cy="297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ngioedema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47640" y="169560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assionally life threate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iditary and related to ACE inhibi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ihistamines, steroids and doxep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058080" y="1676520"/>
            <a:ext cx="3186000" cy="408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irway Obstruc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honia - complete upper air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idor - incomplete upper air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ezing - incomplete lower air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ss of breath sounds- complete lower air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Questions and Answers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029120" y="1676520"/>
            <a:ext cx="2670120" cy="43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aumatic Disorders of the Auricl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47280" y="169560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ematom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cartilaginous necr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rain, antibiotics, bulky ear dressing close follow 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Lacera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single layer closure, pick up perichondrium, bulky ear dres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se posterior auricular block for anesthes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583240" y="1981080"/>
            <a:ext cx="3565440" cy="41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0360" y="1676520"/>
            <a:ext cx="10106280" cy="44863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spiration of Auricular Hematoma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uricl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0080" y="1523520"/>
            <a:ext cx="44960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hondritis - Cellulitis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infectious, difficult to treat because poor blood supply, cover S. Aureus and pseudomo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extra care in diabe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inflammatory causes related to seronegative arthritis at times indistinguishable from infection usually the ear lobe is spar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762440" y="1676520"/>
            <a:ext cx="2743200" cy="41828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591320" y="1676520"/>
            <a:ext cx="2640240" cy="41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Otitis Externa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676160"/>
            <a:ext cx="5181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ection and inflammation caused by bacteria (pseudomonas, staph), and fung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treat with antibiotic-steroid dr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use wick for tight can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diabetics can get malignant otitis externa (defined by the presence of granulation tissu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134040" y="2014560"/>
            <a:ext cx="3800520" cy="34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oreign Bodies in Ear Cana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18478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ually put in by patient, some bugs fly 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ll bugs with mineral oil, or lidoca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ove with forceps, suction or tissue adhe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567400" y="1981080"/>
            <a:ext cx="3600360" cy="41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ympanic Membrane Perfora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0440" y="1676520"/>
            <a:ext cx="5639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d to see – Hx of drain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 from middle ear pressure secondary to fluid or barotrau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times from external trau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heal uneventfully but all need otology follow-up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erfs with vertigo and facial nerve involvement need immediate refer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eat with antibio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ops controversial but indicated for purulent discharge (avoid gentamycin dro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58080" y="1752480"/>
            <a:ext cx="3886200" cy="433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2:43:14Z</dcterms:created>
  <dc:creator>Dr. Quinn</dc:creator>
  <dc:description/>
  <cp:keywords/>
  <dc:language>en-US</dc:language>
  <cp:lastModifiedBy>Steinhart Rachel</cp:lastModifiedBy>
  <cp:lastPrinted>2009-04-22T19:24:48Z</cp:lastPrinted>
  <dcterms:modified xsi:type="dcterms:W3CDTF">2009-01-17T22:31:36Z</dcterms:modified>
  <cp:revision>42</cp:revision>
  <dc:subject/>
  <dc:title>ENT Emergencies</dc:title>
</cp:coreProperties>
</file>